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AF8-554A-47FC-A095-2127DCE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4F2-FAC3-4C25-8FFE-838705C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0A0-5116-455C-B226-7A87CF2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7C3-E915-4269-8FCB-DC7BCD62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936-5B98-499B-BD3A-7CF6248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67C-4E44-4AC2-8B82-CD9C7E29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FA6-453A-4027-97C9-7AB38AA8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F3F-18A2-4F6C-B2CD-4E910C1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CF3-B009-4B68-ACB9-88513DD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B13-AAB1-42F1-9C7F-3DF9947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E20-8FE6-4B20-ACFF-CB79B4C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662-60A8-4A6C-9370-08DF3E4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06E-4FFB-4F8E-AB14-4B5A498D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he-secret-life-of-bees"/>
          <p:cNvPicPr/>
          <p:nvPr/>
        </p:nvPicPr>
        <p:blipFill>
          <a:blip r:embed="rId2"/>
          <a:stretch/>
        </p:blipFill>
        <p:spPr>
          <a:xfrm>
            <a:off x="3200400" y="0"/>
            <a:ext cx="294804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21388200">
            <a:off x="837720" y="4495680"/>
            <a:ext cx="7545600" cy="21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ocab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Only a pharmacist can </a:t>
            </a:r>
            <a:r>
              <a:rPr b="1" lang="en-US" sz="6000" spc="-1" strike="noStrike" u="sng">
                <a:solidFill>
                  <a:srgbClr val="333399"/>
                </a:solidFill>
                <a:uFillTx/>
                <a:latin typeface="Century Gothic"/>
              </a:rPr>
              <a:t>dispense</a:t>
            </a: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 prescription medication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3151080"/>
            <a:ext cx="9144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entury Gothic"/>
              </a:rPr>
              <a:t>My mother is always trying to </a:t>
            </a:r>
            <a:r>
              <a:rPr b="1" lang="en-US" sz="5500" spc="-1" strike="noStrike" u="sng">
                <a:solidFill>
                  <a:srgbClr val="000000"/>
                </a:solidFill>
                <a:uFillTx/>
                <a:latin typeface="Century Gothic"/>
              </a:rPr>
              <a:t>dispense</a:t>
            </a:r>
            <a:r>
              <a:rPr b="1" lang="en-US" sz="5500" spc="-1" strike="noStrike">
                <a:solidFill>
                  <a:srgbClr val="000000"/>
                </a:solidFill>
                <a:latin typeface="Century Gothic"/>
              </a:rPr>
              <a:t> her advice about my love life, even when I don’t want it.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aptit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natural talent and abilit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98520"/>
            <a:ext cx="86868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I have always lacked confidence in my math </a:t>
            </a:r>
            <a:r>
              <a:rPr b="1" lang="en-US" sz="6400" spc="-1" strike="noStrike" u="sng">
                <a:solidFill>
                  <a:srgbClr val="333399"/>
                </a:solidFill>
                <a:uFillTx/>
                <a:latin typeface="Century Gothic"/>
              </a:rPr>
              <a:t>aptitude</a:t>
            </a: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, and never liked participating in math class. 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990720" y="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a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280" y="2209680"/>
            <a:ext cx="883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Garamond"/>
              </a:rPr>
              <a:t>To think of as coming from a particular cause, source, or autho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905120" y="1325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I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ascrib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my brother’s bad mood to all the overtime hours he had to work this week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despic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2854440"/>
            <a:ext cx="883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000000"/>
                </a:solidFill>
                <a:latin typeface="Garamond"/>
              </a:rPr>
              <a:t>horribl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I find it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despicable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when people make judgments about others based on their skin color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yo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a restrictive or repressive for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149400"/>
            <a:ext cx="86868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colonists revolted against the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yoke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of political oppression forced on them by the British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inn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2854440"/>
            <a:ext cx="883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possessed at birth; inhere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60020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33399"/>
                </a:solidFill>
                <a:latin typeface="Bernard MT Condensed"/>
                <a:ea typeface="Aharoni"/>
              </a:rPr>
              <a:t>Chapters         Seven - Ten</a:t>
            </a:r>
            <a:r>
              <a:rPr b="0" lang="en-US" sz="11000" spc="-1" strike="noStrike">
                <a:solidFill>
                  <a:srgbClr val="333399"/>
                </a:solidFill>
                <a:latin typeface="Aharoni"/>
                <a:ea typeface="Aharoni"/>
              </a:rPr>
              <a:t>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14940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motivational speaker seemed to have an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innate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ability to inspire huge crowds of peopl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shiftl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2854440"/>
            <a:ext cx="883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Lazy; lacking ambit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22536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After studying in a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shiftless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way, the boy was not surprised that he failed his science test.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obli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8600" y="2854440"/>
            <a:ext cx="883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Completely unawa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22536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little fish were completely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oblivious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to the shark lurking in the reef, waiting to devour them.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crev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2280" y="3200400"/>
            <a:ext cx="8763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narrow crac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8600" y="0"/>
            <a:ext cx="868680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333399"/>
                </a:solidFill>
                <a:latin typeface="Century Gothic"/>
              </a:rPr>
              <a:t>It took me ten minutes to pull my keys out of the </a:t>
            </a:r>
            <a:r>
              <a:rPr b="1" lang="en-US" sz="6500" spc="-1" strike="noStrike" u="sng">
                <a:solidFill>
                  <a:srgbClr val="333399"/>
                </a:solidFill>
                <a:uFillTx/>
                <a:latin typeface="Century Gothic"/>
              </a:rPr>
              <a:t>crevice</a:t>
            </a:r>
            <a:r>
              <a:rPr b="1" lang="en-US" sz="6500" spc="-1" strike="noStrike">
                <a:solidFill>
                  <a:srgbClr val="333399"/>
                </a:solidFill>
                <a:latin typeface="Century Gothic"/>
              </a:rPr>
              <a:t> between the two seats in the car after I dropped them.  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522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conco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2637000"/>
            <a:ext cx="8839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invent;        make u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905120" y="1782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5920"/>
            <a:ext cx="86868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Lily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concoct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an ingenious plan to help Rosaleen escape from the hospital. 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990720" y="1522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lo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2362320"/>
            <a:ext cx="883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To walk with long, slow, easy strid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05120" y="16002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ke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280" y="23623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Garamond"/>
              </a:rPr>
              <a:t>collapse or fal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385920"/>
            <a:ext cx="83822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The hurt deer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lop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across the field, looking for a safe place to rest. 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in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2280" y="2438280"/>
            <a:ext cx="87631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8500" spc="-1" strike="noStrike">
                <a:solidFill>
                  <a:srgbClr val="000000"/>
                </a:solidFill>
                <a:latin typeface="Garamond"/>
              </a:rPr>
              <a:t>a first experience of something; an introduct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905120" y="1676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-76320"/>
            <a:ext cx="83822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The parents were so proud to watch their child’s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induction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into the National Honor Society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0"/>
            <a:ext cx="8763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Suffering from dehydration, the sick woman </a:t>
            </a:r>
            <a:r>
              <a:rPr b="1" lang="en-US" sz="5000" spc="-1" strike="noStrike" u="sng">
                <a:solidFill>
                  <a:srgbClr val="333399"/>
                </a:solidFill>
                <a:uFillTx/>
                <a:latin typeface="Century Gothic"/>
              </a:rPr>
              <a:t>keeled</a:t>
            </a: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 over in the middle of the store and had to be revived by a paramedic.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228600" y="419112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The huge waves during the storm caused  the sailboat to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entury Gothic"/>
              </a:rPr>
              <a:t>keel</a:t>
            </a: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 over onto its sid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remna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small leftover amoun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320" y="398520"/>
            <a:ext cx="899136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All weekend I cried as I watched the footage of the </a:t>
            </a:r>
            <a:r>
              <a:rPr b="1" lang="en-US" sz="6400" spc="-1" strike="noStrike" u="sng">
                <a:solidFill>
                  <a:srgbClr val="333399"/>
                </a:solidFill>
                <a:uFillTx/>
                <a:latin typeface="Century Gothic"/>
              </a:rPr>
              <a:t>remnants</a:t>
            </a: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 of cities and towns destroyed by the Tsunami in Japan. 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restr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280" y="2532240"/>
            <a:ext cx="87631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Garamond"/>
              </a:rPr>
              <a:t>To hold back or keep under control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A seatbelt can </a:t>
            </a:r>
            <a:r>
              <a:rPr b="1" lang="en-US" sz="5000" spc="-1" strike="noStrike" u="sng">
                <a:solidFill>
                  <a:srgbClr val="333399"/>
                </a:solidFill>
                <a:uFillTx/>
                <a:latin typeface="Century Gothic"/>
              </a:rPr>
              <a:t>restrain</a:t>
            </a: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 someone from hitting their head on the windshield in an accident.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28600" y="335268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I was unable to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entury Gothic"/>
              </a:rPr>
              <a:t>restrain</a:t>
            </a: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 my laughter when the old man started to snore in the middle of church.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dispen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2895480"/>
            <a:ext cx="8763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Garamond"/>
              </a:rPr>
              <a:t>To distribute or give out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7:32Z</dcterms:created>
  <dc:creator>Administrator</dc:creator>
  <dc:description/>
  <dc:language>en-US</dc:language>
  <cp:lastModifiedBy>Administrator</cp:lastModifiedBy>
  <dcterms:modified xsi:type="dcterms:W3CDTF">2012-04-23T23:11:46Z</dcterms:modified>
  <cp:revision>46</cp:revision>
  <dc:subject/>
  <dc:title>Slide 1</dc:title>
</cp:coreProperties>
</file>